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uperb.wav" ContentType="audio/x-wav"/>
  <Override PartName="/ppt/media/voltage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suction.wav" ContentType="audio/x-wav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060-F1D8-48C2-A25B-780DD131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FEF-9834-4495-B18D-10D5AE8D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FA6-0DB9-4CDE-B186-72FC814C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107-8EA8-4BC1-AA9A-996AA6EA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F3C-77DC-4A4B-9A8A-88D1111E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257-A9CA-4E84-8508-37657C9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94F-4F84-4E41-A8C7-FCBFF61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8F6-ACF5-43FE-86F0-237359D0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296-8796-4957-9B71-40A4B81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70F-605F-45A6-845A-F527436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A03-862F-4E44-92FE-AE0F733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8EC-97EB-4A11-900E-2B59399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2CE4-CD21-4675-893B-946404E3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superb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nry and Mudge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rry Night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nthia Ry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514600" y="5181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85800" y="2544840"/>
            <a:ext cx="80773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couldn’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4343400" y="30481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2971800" y="3200400"/>
            <a:ext cx="4114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752480" y="182880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762120" y="838080"/>
            <a:ext cx="7924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905120" y="1676520"/>
            <a:ext cx="525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lo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143000" y="1752480"/>
            <a:ext cx="7086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nt the words one time as they appe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362320" y="220968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838080" y="1752480"/>
            <a:ext cx="784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mo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couldn’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ea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traigh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uil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5812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uperb!!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lown"/>
          <p:cNvPicPr/>
          <p:nvPr/>
        </p:nvPicPr>
        <p:blipFill>
          <a:blip r:embed="rId2"/>
          <a:stretch/>
        </p:blipFill>
        <p:spPr>
          <a:xfrm>
            <a:off x="6629400" y="76212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per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ome2level"/>
          <p:cNvPicPr/>
          <p:nvPr/>
        </p:nvPicPr>
        <p:blipFill>
          <a:blip r:embed="rId2"/>
          <a:stretch/>
        </p:blipFill>
        <p:spPr>
          <a:xfrm>
            <a:off x="4191120" y="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80880" y="411480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191120" y="403848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ome2level"/>
          <p:cNvPicPr/>
          <p:nvPr/>
        </p:nvPicPr>
        <p:blipFill>
          <a:blip r:embed="rId2"/>
          <a:stretch/>
        </p:blipFill>
        <p:spPr>
          <a:xfrm>
            <a:off x="4419720" y="-16524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3168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</a:t>
            </a: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build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32767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Father     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200400"/>
            <a:ext cx="4495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3276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310824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  bear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2438280" y="3048120"/>
            <a:ext cx="5334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33520" y="3124080"/>
            <a:ext cx="8076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bea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5800" y="2544840"/>
            <a:ext cx="8077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ouldn’t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62120" y="3733920"/>
            <a:ext cx="4876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00:04:38Z</dcterms:created>
  <dc:creator>WebMaster</dc:creator>
  <dc:description/>
  <dc:language>en-US</dc:language>
  <cp:lastModifiedBy>Laura McDow</cp:lastModifiedBy>
  <dcterms:modified xsi:type="dcterms:W3CDTF">2010-08-26T00:21:49Z</dcterms:modified>
  <cp:revision>11</cp:revision>
  <dc:subject/>
  <dc:title>Henry and Mudge and the Starry Night by Cynthia Rylant</dc:title>
</cp:coreProperties>
</file>